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B964-497A-485E-8B09-A990DEB9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91DC60-7840-40B2-884E-2978D5978A29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4354-5A1D-4BEA-A0D4-7BC17272D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7880-DB7D-4EF4-B9AF-8008FC10B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3BF5-5B10-4DE0-BE10-08F306D41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7A91-54FE-432A-9E26-8F173CB1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5E81-47B8-4080-8165-1E659929D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9F2AA6-3BF2-4BB5-8B82-BBACB06B6334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8C5-2039-40B0-B04F-A9DAEC6B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7F7-79FB-4D9B-AB30-6CBD67B4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0C7-1D2D-4DD0-BB6D-F60DF2E4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A2D-0DCE-418B-BC34-CA2D0DED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464D-4A5C-40F1-B064-9B18878D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541C-9633-4565-99A0-9CF98E38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C6EC-2BAC-4C62-AC18-91B7A0B0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0C99-AD25-4C6C-896F-72C86C9E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A820-82AE-45C9-AA7C-05ADD651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849D-2766-4D4B-840C-F10E02FA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1048-4808-427F-9E35-2D33D911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22D-67EE-406B-B0E3-A2A4D930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C8C2-2241-437F-AB34-637372E7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7F0C-4952-4015-89DA-375AD5E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3324-4EF9-42BD-800F-2CCBC265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C49A-8D53-4E78-AC40-D0464CF3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BEB1-A8AE-479B-9B67-564C7E38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A07E-128F-4FDD-8C71-C637B940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6AE2-8C9A-4761-846D-19F3829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33EF-4916-4ABF-BE05-22925A91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D329-6563-456C-9651-C88C7C18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45D1-55CF-45D5-BE74-C88108F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3CC-0E33-4F1B-BB3B-C1A3D431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F873-92C7-467A-B873-58982DA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F9D7-F07C-463D-9277-24984311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9FB2-773F-4AC2-A312-8BB72E6D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9909-8A7D-4BB0-A2D4-10D0444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0B54-E9FD-42D1-BD38-BF7652E3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705A-BC80-4D00-829C-A6A4F56F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401D-D089-4313-A45E-6A03D5B8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49BA1-9505-418E-9CE4-A367F72E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1C682-84EA-4614-996E-8C79FFC9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3ED34-11B6-44AF-B891-39DA0F26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81E-FD80-4B6E-9FCD-2153089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B98E5-6B23-4CAF-87F6-884A408C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9BA61-3EE6-4380-B106-4526C352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7BE2C-BC1A-4A47-A638-AA6D4B80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6D92C-F709-429D-A830-FC8F136B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64253-730D-4FF9-A048-D03D3B3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49CB8-4E1A-4C52-9C44-BB564423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6A7F2-C6C8-4432-8AD4-085934A0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4B93F-B3E1-49A9-B93B-63CE4DDD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0A9D0-6957-4A6E-BDBF-225C344A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834-950C-4510-A70D-A24C60E8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833-B645-4FF2-B508-E73876CA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C19-B201-4F75-A671-1E1464E0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F51-3560-40B5-8FDA-7D2AB1D3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E4B-9456-493D-B2F6-43A73E81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26C2-6740-48B8-9A07-221D63277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7B38-1BF6-4BC4-90F8-CA46BFEB5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11/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7C4C-7806-4364-8445-28D2F209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C52A-CCAC-4ACC-A7A0-C413185711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545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rm-Size Correction &amp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ynamical Consistency i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WRF Vortex Initialization</a:t>
            </a:r>
            <a:br>
              <a:rPr sz="3200"/>
            </a:br>
            <a:br>
              <a:rPr sz="2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vin Yeh</a:t>
            </a:r>
            <a:br>
              <a:rPr sz="2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MAS/UM &amp; HRD/AOM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ami, Florida</a:t>
            </a:r>
            <a:br>
              <a:rPr sz="2400"/>
            </a:br>
            <a:br>
              <a:rPr sz="2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ion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C/NCEP &amp; HRD/AOML</a:t>
            </a:r>
            <a:br>
              <a:rPr sz="2400"/>
            </a:br>
            <a:br>
              <a:rPr sz="2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January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201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Documents and Settings\kevin.yeh\My Documents\HWRF-IC\Test0\earl2010_rmw_ctrl_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1447920" y="302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IC:</a:t>
            </a:r>
            <a:endParaRPr b="0" lang="en-US" sz="16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Documents and Settings\kevin.yeh\My Documents\HWRF-IC\earl2010\earl2010_r34_test3q_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1371600" y="3024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C:</a:t>
            </a:r>
            <a:endParaRPr b="0" lang="en-US" sz="16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hart 1" descr=""/>
          <p:cNvPicPr/>
          <p:nvPr/>
        </p:nvPicPr>
        <p:blipFill>
          <a:blip r:embed="rId1"/>
          <a:stretch/>
        </p:blipFill>
        <p:spPr>
          <a:xfrm>
            <a:off x="-36360" y="-103320"/>
            <a:ext cx="9186840" cy="70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Chart 1" descr=""/>
          <p:cNvPicPr/>
          <p:nvPr/>
        </p:nvPicPr>
        <p:blipFill>
          <a:blip r:embed="rId1"/>
          <a:stretch/>
        </p:blipFill>
        <p:spPr>
          <a:xfrm>
            <a:off x="-36360" y="-103320"/>
            <a:ext cx="9186840" cy="70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kevin.yeh\My Documents\HWRF-IC\earl2010090200_rmw_ctrl_ic_mslp.gif"/>
          <p:cNvPicPr/>
          <p:nvPr/>
        </p:nvPicPr>
        <p:blipFill>
          <a:blip r:embed="rId1"/>
          <a:stretch/>
        </p:blipFill>
        <p:spPr>
          <a:xfrm>
            <a:off x="914400" y="342900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Documents and Settings\kevin.yeh\My Documents\HWRF-IC\earl2010090200_rmw_ctrl_ic_wind.gif"/>
          <p:cNvPicPr/>
          <p:nvPr/>
        </p:nvPicPr>
        <p:blipFill>
          <a:blip r:embed="rId2"/>
          <a:stretch/>
        </p:blipFill>
        <p:spPr>
          <a:xfrm>
            <a:off x="91440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C:\Documents and Settings\kevin.yeh\My Documents\HWRF-IC\earl2010090200_r34_test3q_ic_mslp.gif"/>
          <p:cNvPicPr/>
          <p:nvPr/>
        </p:nvPicPr>
        <p:blipFill>
          <a:blip r:embed="rId3"/>
          <a:stretch/>
        </p:blipFill>
        <p:spPr>
          <a:xfrm>
            <a:off x="4572000" y="342900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C:\Documents and Settings\kevin.yeh\My Documents\HWRF-IC\earl2010090200_r34_test3q_ic_wind.gif"/>
          <p:cNvPicPr/>
          <p:nvPr/>
        </p:nvPicPr>
        <p:blipFill>
          <a:blip r:embed="rId4"/>
          <a:stretch/>
        </p:blipFill>
        <p:spPr>
          <a:xfrm>
            <a:off x="4572000" y="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"/>
          <p:cNvSpPr/>
          <p:nvPr/>
        </p:nvSpPr>
        <p:spPr>
          <a:xfrm>
            <a:off x="2526840" y="3200400"/>
            <a:ext cx="39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W* = 37 km, R34* = 315 km, ROCI* = 371 km</a:t>
            </a:r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2340000" y="1639800"/>
            <a:ext cx="28404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6012000" y="1636560"/>
            <a:ext cx="28404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2179800" y="1951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nap ITC"/>
              </a:rPr>
              <a:t>RMW*</a:t>
            </a: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853240" y="1941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nap ITC"/>
              </a:rPr>
              <a:t>RMW*</a:t>
            </a: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1281240" y="533520"/>
            <a:ext cx="2401920" cy="251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68" name="Oval 12"/>
          <p:cNvSpPr/>
          <p:nvPr/>
        </p:nvSpPr>
        <p:spPr>
          <a:xfrm>
            <a:off x="4943520" y="533520"/>
            <a:ext cx="2403360" cy="251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2173320" y="2819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nap ITC"/>
              </a:rPr>
              <a:t>R34*</a:t>
            </a: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5837400" y="2819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nap ITC"/>
              </a:rPr>
              <a:t>R34*</a:t>
            </a: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71" name="Oval 15"/>
          <p:cNvSpPr/>
          <p:nvPr/>
        </p:nvSpPr>
        <p:spPr>
          <a:xfrm>
            <a:off x="1089000" y="3770280"/>
            <a:ext cx="2838600" cy="2895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4738680" y="3773520"/>
            <a:ext cx="2838600" cy="2895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457200" y="609480"/>
            <a:ext cx="80010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new IC has </a:t>
            </a:r>
            <a:r>
              <a:rPr b="0" lang="en-US" sz="2400" spc="-1" strike="noStrike">
                <a:solidFill>
                  <a:srgbClr val="3333cc"/>
                </a:solidFill>
                <a:latin typeface="Cambria"/>
              </a:rPr>
              <a:t>improved about 10% in track forecast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fter 24h over the old IC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for Earl (2010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new IC has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improved 40% in 6h intensity forecast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ver the old IC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for Earl (2010), and 35% for 12h forecas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improvement is achieved by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model-consisten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djustment of angular momentum and minimum MSLP, which substantially reduces the positive bias in weak cases and the shocks in strong cases while providing moderately favorable conditioning for intensification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y successful collaboration btw operation &amp; research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457200" y="121932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Future Works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fine the formulation of storm-size correction and model-consistent pressure for more general cases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orm-depth correction for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vertical structure: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rive storm-depth formula from TC vitals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eling upper-level satellite data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eling airborne radar data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lv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3D balance equations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8" descr="HWRF_high_level_initialization_overview_withGSI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6"/>
          <p:cNvSpPr/>
          <p:nvPr/>
        </p:nvSpPr>
        <p:spPr>
          <a:xfrm>
            <a:off x="5638680" y="4191120"/>
            <a:ext cx="2286000" cy="1310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gus vorte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used to modif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WRF vorte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nhance spin-up proc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previous 6h forecast is weaker than observation.</a:t>
            </a:r>
            <a:endParaRPr b="0" lang="en-US" sz="16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6"/>
          <p:cNvSpPr/>
          <p:nvPr/>
        </p:nvSpPr>
        <p:spPr>
          <a:xfrm>
            <a:off x="685800" y="533520"/>
            <a:ext cx="3733920" cy="241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gus Vortex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posite Storm)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xisymmetric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-Generated Prototype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-Supported Structures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hance Spin-up Process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</p:txBody>
      </p:sp>
      <p:pic>
        <p:nvPicPr>
          <p:cNvPr id="176" name="Picture 2" descr="composite_uv1"/>
          <p:cNvPicPr/>
          <p:nvPr/>
        </p:nvPicPr>
        <p:blipFill>
          <a:blip r:embed="rId1"/>
          <a:srcRect l="9000" t="0" r="0" b="6003"/>
          <a:stretch/>
        </p:blipFill>
        <p:spPr>
          <a:xfrm>
            <a:off x="4724280" y="152280"/>
            <a:ext cx="4160880" cy="322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omposite_t1"/>
          <p:cNvPicPr/>
          <p:nvPr/>
        </p:nvPicPr>
        <p:blipFill>
          <a:blip r:embed="rId2"/>
          <a:srcRect l="9000" t="0" r="0" b="6003"/>
          <a:stretch/>
        </p:blipFill>
        <p:spPr>
          <a:xfrm>
            <a:off x="4724280" y="3429000"/>
            <a:ext cx="4160880" cy="322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omposite_mix1"/>
          <p:cNvPicPr/>
          <p:nvPr/>
        </p:nvPicPr>
        <p:blipFill>
          <a:blip r:embed="rId3"/>
          <a:srcRect l="9000" t="0" r="0" b="6003"/>
          <a:stretch/>
        </p:blipFill>
        <p:spPr>
          <a:xfrm>
            <a:off x="457200" y="3429000"/>
            <a:ext cx="4160880" cy="322272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24" descr=""/>
          <p:cNvPicPr/>
          <p:nvPr/>
        </p:nvPicPr>
        <p:blipFill>
          <a:blip r:embed="rId4"/>
          <a:stretch/>
        </p:blipFill>
        <p:spPr>
          <a:xfrm>
            <a:off x="4645080" y="378000"/>
            <a:ext cx="377640" cy="6220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25" descr=""/>
          <p:cNvPicPr/>
          <p:nvPr/>
        </p:nvPicPr>
        <p:blipFill>
          <a:blip r:embed="rId5"/>
          <a:stretch/>
        </p:blipFill>
        <p:spPr>
          <a:xfrm>
            <a:off x="4645080" y="3651120"/>
            <a:ext cx="377640" cy="62244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26" descr=""/>
          <p:cNvPicPr/>
          <p:nvPr/>
        </p:nvPicPr>
        <p:blipFill>
          <a:blip r:embed="rId6"/>
          <a:stretch/>
        </p:blipFill>
        <p:spPr>
          <a:xfrm>
            <a:off x="378000" y="3651120"/>
            <a:ext cx="3776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m-Size Correction with 2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9"/>
              <p:cNvSpPr txBox="1"/>
              <p:nvPr/>
            </p:nvSpPr>
            <p:spPr>
              <a:xfrm>
                <a:off x="914400" y="990720"/>
                <a:ext cx="6010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4"/>
              <p:cNvSpPr txBox="1"/>
              <p:nvPr/>
            </p:nvSpPr>
            <p:spPr>
              <a:xfrm>
                <a:off x="914400" y="1905120"/>
                <a:ext cx="63673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8"/>
              <p:cNvSpPr txBox="1"/>
              <p:nvPr/>
            </p:nvSpPr>
            <p:spPr>
              <a:xfrm>
                <a:off x="914400" y="2819520"/>
                <a:ext cx="60609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&lt;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MW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MW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RMW</m:t>
                        </m:r>
                      </m:e>
                      <m:sup/>
                    </m:sSup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914400" y="3733920"/>
                <a:ext cx="6419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&lt;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OCI,ROCI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34,R34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8"/>
              <p:cNvSpPr txBox="1"/>
              <p:nvPr/>
            </p:nvSpPr>
            <p:spPr>
              <a:xfrm>
                <a:off x="914400" y="4648320"/>
                <a:ext cx="60181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r</m:t>
                                </m:r>
                              </m:e>
                              <m:sup/>
                            </m:sSup>
                          </m:e>
                        </m:rad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" name="Group 41"/>
          <p:cNvGrpSpPr/>
          <p:nvPr/>
        </p:nvGrpSpPr>
        <p:grpSpPr>
          <a:xfrm>
            <a:off x="228600" y="5410080"/>
            <a:ext cx="8458200" cy="914400"/>
            <a:chOff x="228600" y="5410080"/>
            <a:chExt cx="8458200" cy="914400"/>
          </a:xfrm>
        </p:grpSpPr>
        <p:grpSp>
          <p:nvGrpSpPr>
            <p:cNvPr id="197" name="Group 21"/>
            <p:cNvGrpSpPr/>
            <p:nvPr/>
          </p:nvGrpSpPr>
          <p:grpSpPr>
            <a:xfrm>
              <a:off x="228600" y="5410080"/>
              <a:ext cx="8458200" cy="838440"/>
              <a:chOff x="228600" y="5410080"/>
              <a:chExt cx="8458200" cy="838440"/>
            </a:xfrm>
          </p:grpSpPr>
          <p:sp>
            <p:nvSpPr>
              <p:cNvPr id="198" name="AutoShape 22"/>
              <p:cNvSpPr/>
              <p:nvPr/>
            </p:nvSpPr>
            <p:spPr>
              <a:xfrm>
                <a:off x="228600" y="5410080"/>
                <a:ext cx="845820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199" name="Line 23"/>
              <p:cNvSpPr/>
              <p:nvPr/>
            </p:nvSpPr>
            <p:spPr>
              <a:xfrm flipV="1">
                <a:off x="948240" y="5913000"/>
                <a:ext cx="7198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0" name="Line 24"/>
              <p:cNvSpPr/>
              <p:nvPr/>
            </p:nvSpPr>
            <p:spPr>
              <a:xfrm>
                <a:off x="948240" y="574596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1" name="Line 25"/>
              <p:cNvSpPr/>
              <p:nvPr/>
            </p:nvSpPr>
            <p:spPr>
              <a:xfrm>
                <a:off x="2028240" y="574596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2" name="Line 26"/>
              <p:cNvSpPr/>
              <p:nvPr/>
            </p:nvSpPr>
            <p:spPr>
              <a:xfrm>
                <a:off x="2747880" y="5744880"/>
                <a:ext cx="108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3" name="Line 27"/>
              <p:cNvSpPr/>
              <p:nvPr/>
            </p:nvSpPr>
            <p:spPr>
              <a:xfrm>
                <a:off x="5627160" y="574596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4" name="Line 28"/>
              <p:cNvSpPr/>
              <p:nvPr/>
            </p:nvSpPr>
            <p:spPr>
              <a:xfrm>
                <a:off x="7067160" y="5745960"/>
                <a:ext cx="108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5" name="Object 32"/>
                <p:cNvSpPr txBox="1"/>
                <p:nvPr/>
              </p:nvSpPr>
              <p:spPr>
                <a:xfrm>
                  <a:off x="1904760" y="5943600"/>
                  <a:ext cx="3045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Object 31"/>
                <p:cNvSpPr txBox="1"/>
                <p:nvPr/>
              </p:nvSpPr>
              <p:spPr>
                <a:xfrm>
                  <a:off x="2620800" y="5943600"/>
                  <a:ext cx="269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Object 30"/>
                <p:cNvSpPr txBox="1"/>
                <p:nvPr/>
              </p:nvSpPr>
              <p:spPr>
                <a:xfrm>
                  <a:off x="5486400" y="5943600"/>
                  <a:ext cx="357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29"/>
                <p:cNvSpPr txBox="1"/>
                <p:nvPr/>
              </p:nvSpPr>
              <p:spPr>
                <a:xfrm>
                  <a:off x="6934320" y="5943600"/>
                  <a:ext cx="368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Object 10"/>
                <p:cNvSpPr txBox="1"/>
                <p:nvPr/>
              </p:nvSpPr>
              <p:spPr>
                <a:xfrm>
                  <a:off x="867960" y="5996160"/>
                  <a:ext cx="19836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210" name="Straight Arrow Connector 31"/>
            <p:cNvCxnSpPr/>
            <p:nvPr/>
          </p:nvCxnSpPr>
          <p:spPr>
            <a:xfrm flipH="1" flipV="1">
              <a:off x="2132640" y="579060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</p:cxnSp>
        <p:cxnSp>
          <p:nvCxnSpPr>
            <p:cNvPr id="211" name="Straight Arrow Connector 33"/>
            <p:cNvCxnSpPr/>
            <p:nvPr/>
          </p:nvCxnSpPr>
          <p:spPr>
            <a:xfrm flipH="1" flipV="1">
              <a:off x="5790600" y="5790600"/>
              <a:ext cx="114372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</p:cxnSp>
        <p:sp>
          <p:nvSpPr>
            <p:cNvPr id="212" name="TextBox 38"/>
            <p:cNvSpPr/>
            <p:nvPr/>
          </p:nvSpPr>
          <p:spPr>
            <a:xfrm>
              <a:off x="2330280" y="541008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RMW)</a:t>
              </a:r>
              <a:endParaRPr b="0" lang="en-US" sz="1400" spc="-1" strike="noStrike">
                <a:solidFill>
                  <a:srgbClr val="000000"/>
                </a:solidFill>
                <a:latin typeface="Snap ITC"/>
              </a:endParaRPr>
            </a:p>
          </p:txBody>
        </p:sp>
        <p:sp>
          <p:nvSpPr>
            <p:cNvPr id="213" name="TextBox 39"/>
            <p:cNvSpPr/>
            <p:nvPr/>
          </p:nvSpPr>
          <p:spPr>
            <a:xfrm>
              <a:off x="6651720" y="541008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ROCI)</a:t>
              </a:r>
              <a:endParaRPr b="0" lang="en-US" sz="1400" spc="-1" strike="noStrike">
                <a:solidFill>
                  <a:srgbClr val="000000"/>
                </a:solidFill>
                <a:latin typeface="Snap ITC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39"/>
                <p:cNvSpPr txBox="1"/>
                <p:nvPr/>
              </p:nvSpPr>
              <p:spPr>
                <a:xfrm>
                  <a:off x="4125960" y="5964120"/>
                  <a:ext cx="3538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Line 26"/>
            <p:cNvSpPr/>
            <p:nvPr/>
          </p:nvSpPr>
          <p:spPr>
            <a:xfrm>
              <a:off x="4311720" y="579096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nap ITC"/>
              </a:endParaRPr>
            </a:p>
          </p:txBody>
        </p:sp>
        <p:sp>
          <p:nvSpPr>
            <p:cNvPr id="216" name="TextBox 40"/>
            <p:cNvSpPr/>
            <p:nvPr/>
          </p:nvSpPr>
          <p:spPr>
            <a:xfrm>
              <a:off x="3886200" y="541008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R34)</a:t>
              </a:r>
              <a:endParaRPr b="0" lang="en-US" sz="1400" spc="-1" strike="noStrike">
                <a:solidFill>
                  <a:srgbClr val="000000"/>
                </a:solidFill>
                <a:latin typeface="Snap IT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-level pressure adjustment with gradient-wind stream fun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838080" y="27432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e adjustment with hydrostatic assumption: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4"/>
              <p:cNvSpPr txBox="1"/>
              <p:nvPr/>
            </p:nvSpPr>
            <p:spPr>
              <a:xfrm>
                <a:off x="1430280" y="3505320"/>
                <a:ext cx="6283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ΓΔ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Δ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Δp</m:t>
                    </m:r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Δp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Rectangle 2"/>
          <p:cNvSpPr/>
          <p:nvPr/>
        </p:nvSpPr>
        <p:spPr>
          <a:xfrm>
            <a:off x="838080" y="4343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isture adjustment with unchanged relative humidity: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143000" y="502920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q</m:t>
                    </m:r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q</m:t>
                    </m:r>
                    <m:r>
                      <m:t xml:space="preserve">≈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495680" y="5029200"/>
                <a:ext cx="35053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914400" y="1676520"/>
                <a:ext cx="1457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p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Δp</m:t>
                    </m:r>
                    <m:f>
                      <m:num>
                        <m:sSup>
                          <m:e>
                            <m:r>
                              <m:t xml:space="preserve">ψ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3"/>
              <p:cNvSpPr txBox="1"/>
              <p:nvPr/>
            </p:nvSpPr>
            <p:spPr>
              <a:xfrm>
                <a:off x="2514600" y="1600200"/>
                <a:ext cx="228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ψ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∞</m:t>
                        </m:r>
                      </m:sub>
                      <m:sup>
                        <m:sSup>
                          <m:e>
                            <m:r>
                              <m:t xml:space="preserve">r</m:t>
                            </m:r>
                          </m:e>
                          <m:sup/>
                        </m:sSup>
                      </m:sup>
                      <m:e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</m:e>
                    </m:nary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  <m:sup/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4952880" y="1600200"/>
                <a:ext cx="3353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∞</m:t>
                        </m:r>
                      </m:sub>
                      <m:sup>
                        <m:sSup>
                          <m:e>
                            <m:r>
                              <m:t xml:space="preserve">r</m:t>
                            </m:r>
                          </m:e>
                          <m:sup/>
                        </m:sSup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/>
                                </m:sSup>
                              </m:den>
                            </m:f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/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/>
                                </m:sSup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p/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d surface pressure-wind relation (Brown et al, 200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838080" y="3657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odel-consistent press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observed surface wind correction: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838080" y="51055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e and moisture adjustments with balance equations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6"/>
              <p:cNvSpPr txBox="1"/>
              <p:nvPr/>
            </p:nvSpPr>
            <p:spPr>
              <a:xfrm>
                <a:off x="2514600" y="2286000"/>
                <a:ext cx="37702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4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b,kt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5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8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b,m/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8"/>
              <p:cNvSpPr txBox="1"/>
              <p:nvPr/>
            </p:nvSpPr>
            <p:spPr>
              <a:xfrm>
                <a:off x="1752480" y="4419720"/>
                <a:ext cx="57009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15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8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b,m/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2"/>
          <p:cNvSpPr/>
          <p:nvPr/>
        </p:nvSpPr>
        <p:spPr>
          <a:xfrm>
            <a:off x="838080" y="8380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al Consistency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457200" y="380880"/>
            <a:ext cx="769608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Experiment Settings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ambria"/>
              </a:rPr>
              <a:t>Old 2010 IC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RMW correction for all cases,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using both observed 10m wind and minimum MSLP,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and extra 20% enhancement of bogus vortex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New 2011 IC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RMW+ROCI correction for TD/TS cases, and RMW+R34 correction for hurricane cases, using observed 10m wind but model-consistent min MSLP, without extra enhancement of bogus vorte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el R34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is defined with the symmetric component of scaled vortex wind (excluding environment flow)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el ROC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is defined with the perturbation surface pressure P’ = 50 Pa of the symmetric component of scaled vortex pressure (excluding environment flow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hart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547120" cy="6333840"/>
          </a:xfrm>
          <a:prstGeom prst="rect">
            <a:avLst/>
          </a:prstGeom>
          <a:ln w="0">
            <a:noFill/>
          </a:ln>
        </p:spPr>
      </p:pic>
      <p:pic>
        <p:nvPicPr>
          <p:cNvPr id="246" name="TextBox 2" descr=""/>
          <p:cNvPicPr/>
          <p:nvPr/>
        </p:nvPicPr>
        <p:blipFill>
          <a:blip r:embed="rId2"/>
          <a:stretch/>
        </p:blipFill>
        <p:spPr>
          <a:xfrm>
            <a:off x="146160" y="1987560"/>
            <a:ext cx="476280" cy="2681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"/>
          <p:cNvSpPr/>
          <p:nvPr/>
        </p:nvSpPr>
        <p:spPr>
          <a:xfrm>
            <a:off x="3817080" y="61722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cast Hour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Chart 1" descr=""/>
          <p:cNvPicPr/>
          <p:nvPr/>
        </p:nvPicPr>
        <p:blipFill>
          <a:blip r:embed="rId1"/>
          <a:stretch/>
        </p:blipFill>
        <p:spPr>
          <a:xfrm>
            <a:off x="298440" y="182520"/>
            <a:ext cx="8547120" cy="6224760"/>
          </a:xfrm>
          <a:prstGeom prst="rect">
            <a:avLst/>
          </a:prstGeom>
          <a:ln w="0">
            <a:noFill/>
          </a:ln>
        </p:spPr>
      </p:pic>
      <p:pic>
        <p:nvPicPr>
          <p:cNvPr id="249" name="TextBox 2" descr=""/>
          <p:cNvPicPr/>
          <p:nvPr/>
        </p:nvPicPr>
        <p:blipFill>
          <a:blip r:embed="rId2"/>
          <a:stretch/>
        </p:blipFill>
        <p:spPr>
          <a:xfrm>
            <a:off x="146160" y="1616040"/>
            <a:ext cx="476280" cy="3473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3817080" y="61722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cast Hour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990720" y="2057400"/>
            <a:ext cx="2209680" cy="2057400"/>
          </a:xfrm>
          <a:prstGeom prst="ellipse">
            <a:avLst/>
          </a:prstGeom>
          <a:noFill/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11-01-20T02:15:52Z</dcterms:modified>
  <cp:revision>827</cp:revision>
  <dc:subject/>
  <dc:title>HIGH RESOLUTION fvGCM  RESULTS</dc:title>
</cp:coreProperties>
</file>